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CE89-1D55-44CA-91CD-15D39569A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8512-0C18-46CE-A2E5-0B4A2191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DAC591-FCDF-4268-A244-146E556F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1E0BCC-0FBA-4510-B971-C4B22E4D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E1072-16A1-41B7-95E1-1D6617AF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A8DE43-12CD-4BC1-AC4A-4089C7A5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189DC5-72FA-4D4F-BA80-1FEAA281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7218E-24E9-4732-9857-E5794C17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727A2-7FF6-4E3F-B5EE-2FFF0CD5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D8C276-BA35-4071-A43E-6796B1A6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D46714-6D37-49B8-B993-DE6F888FC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012E78-CBB8-41EB-BFE8-9700517FA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1798-C45A-48CD-98C9-7CCFD6528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A9C2DB-FE93-494C-B499-E374D355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F5F22-E83E-47A8-A659-7ABEA8D4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E9EF96-A168-480B-B8B6-AF7F8F5E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FFD200-0640-4B5E-BB13-7B5DFAED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8F92B9-4923-44B5-B78E-F371D029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1062E4-AFC3-4D84-A6DA-02B8776D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9D35CF-D4EA-4D98-B9D9-DC9C69D6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8B9120-6F1E-4662-90F6-4F3E38A1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3B15E5-EF81-44EE-B87D-7EC955A7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1D10D5-6E55-4C3E-855F-B677951A4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477F-E4F5-4A08-83F7-A53D233A3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304C8-1807-4976-8ED2-7059A89A1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03BAA-FCDB-4CD7-8F8B-E138789A5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87DAD-8974-43E5-B9FD-B7D17C78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9889D-D306-4C3C-BD9D-F80E61AB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200C2-4E9F-4CBC-ABCC-836A1C0B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471319-C263-4C89-B26E-D2D16369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325D7-EFC6-4072-8D98-467008BC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D3A89-D4B8-4789-B6F5-EB05E480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51326-E57B-4B6D-93F9-99A8E05D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4983A-13EE-4E49-ABC5-78CE1155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411B-760B-420F-B871-03F5C81D5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1EEEA-A2D1-4C8F-B41E-78B4361E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0A37B-DBEE-4624-9EAE-E5E2B93D8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0E17C-8FCE-414E-A02B-0ABFB9708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19865C-34E9-46B8-9CC7-298CE41D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4A60C7-8361-4BDB-84FF-4E62E94E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DE6EF5-115A-4435-BA3B-BE948D9D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38F5F5-1D4A-4105-8B5F-51CE19B6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E67FB9-4D03-42EA-8D74-04B0715E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496732-0088-4912-B40F-51C9CF25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3D66B8-D01D-4447-8D1D-45C2867F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9C5E-A5E6-4679-904A-84B165E2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7690B-902A-4C8C-8680-1BDF86B0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B1D0E-99FD-489A-81AE-683B3321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74AF6-47FF-4764-AFBB-0813A0BF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0E9C16-6CCC-4388-9964-FA9CA534D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2D5170-1359-4629-B5B8-A03E7C66D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D3D37A-FB29-4D4E-BF8F-25FFF2206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BBF6A5-F6F4-4211-A0BA-9674FB24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ECD37B-3E00-4A89-B7F6-303B57BF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D3493D-6775-4E42-B457-073123A6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EEA467-88FE-439B-B768-A0BBDA46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3A35-52CF-4F7C-A38C-5E78EA71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3C026E-1EC2-4487-9DA4-3D429A61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CA219D-19A2-46FB-92D0-085C3CA8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CB3F64-87E4-47D4-A28B-E4125711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3C64FF-0487-4B95-B7B8-7E8597BC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B87106-F5F4-4A92-A480-98056199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141646-385E-479C-B71F-984058668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11F6DF-30D8-4C35-829E-B2FC5ADCC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85A02F-DD8E-4141-8406-96775D501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706ECC-F191-4568-938E-49BA5112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C71886-B881-423D-8F46-2C6DBDEF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D4BA-05AC-47CD-B4CF-8D8E3593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CE6A38-D671-4211-B8D0-BC2A6E33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8969A8-1C50-417F-9FDC-A9DDD64A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E46C18-3411-42E1-A7C0-7FD284DA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B3A116-2825-437C-B4F5-8AE2D5A5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639CF4-B974-488C-8879-30715576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9B5863-F5E9-49E9-BE04-8C9018C1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D51590-CBE4-48F4-BD83-3B62DF99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BEF719-FE40-4FC9-B864-2A165E923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C64C7E-5635-4FF4-AA6A-E216966AA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55924E-DFA9-44E9-9907-18F57CB43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7B04-C291-464D-85BC-E7E39E41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219083-DB32-477F-8BA8-78217AB7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BD8E53-AE49-48F2-8D48-34FE409B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38D523-D116-4A16-B868-968F1D28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33430B-47B7-4716-8BE1-69A82863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BCFA5B-DE15-495C-A469-63B0A7B1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A28120-9EA3-4F24-9CC4-635DD928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606973-5DFC-4010-883E-9D2C812E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96ED9F-6B7C-4E38-AE58-FF29908C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E4117D-A264-432A-A738-525B9D70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D1597C-F8DA-4EC6-9358-3857378C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68B7-761A-4CA6-A3BE-1DF31C84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E33473-C0EC-43F5-A4CA-12244C55D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C50FCF-4C1D-48C9-A852-91AF0BFC2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CB7A50-99D2-4998-BDCE-BDB4921F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739595-C865-4B32-B9C6-FFF6E778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791C18-067C-49BC-8785-5AE31162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8118C3-B11F-4F24-BA5B-35809799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FF1FEE-A659-4A7D-8D5D-8C3BC321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3A85BB-D3C3-4FF7-8D6A-44DE7B11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100496-12B4-4644-B8E7-F460A5A4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A89A3D-3353-43AD-A616-202C609D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B84A-861E-408F-8394-77A7C9E2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96164A-C82B-48EB-82FF-D2FE0442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6CF491-5F21-4C71-98B8-C559C1BD2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7D0696-87E9-4238-8EA2-CD82E06EF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5FB42F-1F50-4132-9F6F-3D1036E1B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D5E8CF-B96E-44A7-ACE5-9B3FEA01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F51495-98C6-45C6-9711-BBEE939C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610821-4DFC-47A9-85C6-DDFBCA11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09217B-2602-4F9D-A728-406327E7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A88834-C5B9-4B1A-8636-33BF4AD9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09A860-0788-4B3F-9096-8FA84C25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340E-541B-4F94-A02C-95AB037E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5F95-CC98-45FC-B1CC-04CAF953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AB551A-09CF-4809-A16B-F9DB7B14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FA9520-4110-474B-B568-43C95EFA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7A3F2B-7634-487C-BA0E-7EAC06CB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83F6B7-AE9E-482C-A267-C495E25FA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8B124D-E088-41EB-8157-298EB4F02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46297C-4A36-4A6F-92DD-53E8EE3B2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4C843B-970B-4968-AD71-E7714AEB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87B17C-EDC1-40F2-BA54-574472C1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AF9BFC-87D1-487E-8696-E8FDEE89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23806F-939D-44EE-8941-57BB4F9A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A65D-ABB9-4187-BC9B-E851323D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5F4F53-28C9-4B3B-B4A7-85393E1D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FB0907-49ED-4D22-A0D0-C2B52E69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DB9F4A-D5C8-4F01-BE36-EE7221A2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ED0B32-BA0D-4423-8D52-EEA9C6EB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1DB2B2-3F44-4268-8352-1FEE5FBE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EB365D-EB75-4CEA-B3EA-AEDBA537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D87F02-8A14-43AD-A93D-ED76B80E5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322D92-57FF-4C2A-8194-67648F673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964618-7838-4B9E-8619-9CD43C5D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7FAEDC-F371-483C-A782-6A62C114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C8A1-F12E-4980-A698-520676AB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DB045C-50BC-4849-B67E-B92C1E22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EEC54C-5FA2-4F96-93AC-BB68F1DC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D9755F-B475-48E5-8225-49A47F15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E894AA-D427-4BDC-8289-E38251CB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38B1A0-F924-4857-B692-6823AEDB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254FF3-65C4-4359-88CA-B824AADA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525F51-43BB-4749-8BAA-49CB5A04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4F0E82-743B-4EAC-92D6-9458EEEA8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C87514-BD1E-41D6-A88F-183B4A04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5427F2-A78F-4286-ABB1-ADB87D5D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CDBD-B826-489F-A88C-3A1794CB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857102-3281-4E0B-8B31-95BCE5B1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91C437-FB17-4162-9B65-ACBE705A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BAE05B-E7FD-4160-A39F-5E2EA25D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6FF166-E85B-48AC-B4D2-63BBF100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86E872-8996-4067-AE6A-F738034B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7D72A8-8368-45B6-8815-BB628A16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C00298-41F0-45C3-A623-78B8B2E2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205640-0CA2-4878-817F-03677583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12510D-C98D-4A57-A128-606E6C5D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C76B47-5E65-43CD-B3BC-2D6E23FE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537E-E6DD-43ED-8941-F92125643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21EBBE-F2A0-4B24-9B43-A0B086B92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94C299-EF25-45FE-8CBF-BCAFA99DA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DB5608-D149-4194-B59B-7CBBF60D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01E68E-88EC-427A-AD41-FC53B636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48162A-4907-4F2D-8712-0100FA16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8091EF-AAC1-4545-ABEC-B6503B46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6BAC19-14FE-48C9-86EA-484E74FF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C31708-93C7-4968-BF0F-ECFE3D65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EA4344-E47E-479B-96BD-057AFE67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05DBDC-89D1-4555-8270-AFDA25A2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4AE38-C29B-4A1E-9909-245C11512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0613D4-651D-4221-A218-66CCD4A3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C767AA-24F4-4256-A7A7-64576B69C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77FB14-E792-4851-8479-4AFE51149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15E75-DD6D-4355-9BAC-8C198DC7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B9E55-D422-4528-9D61-055C0A97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BF8DE-2D0E-430D-A281-09704EAF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74E47-FDB5-4E92-B244-19B4D507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8CB0-B579-40E7-A7BD-7BF7AE6C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94948-EC16-4A10-AD57-649C2EFD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B7163-1193-4439-A945-93BFF332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3D63C-79E7-4DAC-ABA4-EEC6D187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84A59-3ED3-48DF-98D8-946A2810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396C7-D555-4B4C-88B2-03A3C26A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68E41-2455-46B6-8DA1-30FB4E1E6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482BD-6B95-4C99-B7AA-E9F73E93E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4B4A2-D58A-48B4-8584-179167D2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E56DE-3DDE-4B72-BE6C-D001C9A6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996FE-CC41-4ABB-92AC-18B182D9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0383-C98E-4DDC-B971-B6936081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45B44-5328-4573-A886-654B8FE6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B0314-3511-4661-9604-5459036E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4C5B5-12E4-497F-9F92-9BC0D9F7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0A9AF-E43F-4238-BFC6-7FED17CA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02452-69B4-4A9C-9A3B-02218208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12CA2-0AC6-4A9F-B835-95114995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2181E-4CE9-4599-9C71-BE0DFA1F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8EB2B-AC62-4983-85B5-FBADE0637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1084E-EAC3-407C-957A-E9FA6D2FD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BFD11-644F-45AE-B907-50078AA65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BEF1-A546-4BEF-B6DE-38E3BD27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0A7AD-76D1-41C4-94AE-F9CCC502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C1DAB-BF18-4E77-89AD-CB994FB9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4A5FA-1396-4FCA-B34A-3B1A9CE7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5B355-A5CF-47A7-8DAE-879E6B86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E2F60-7FE3-4204-84B0-45D58A90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81D71-0687-4AFF-B956-5377315E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1BD5E-63A9-4710-B67D-16EF3F36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79A7D-2299-41D4-9E49-CF4D58F4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330DA-E4D6-4278-B06B-E3AD9EE1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2E42A-1398-41EF-9C77-B4286CB3A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7DE6-A94B-41B4-88A1-436C0A00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B57D5-6A5A-4ADA-888C-FA70C8690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F50B3-64F2-4876-9D20-9E791ACBC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EE9AD-8901-47B1-9665-50A067FC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54D75-0812-4AF1-B2F3-1B2CFA7B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CE4BF-6994-4848-98AA-A919B4AB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39E49-BCD4-46CA-A96F-FA973846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B093F-66D7-4C24-9BC5-9942DA22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DCD58-676B-45E5-B82A-9873453A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C1D68-F68E-4A8B-A291-FEAF7634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297F5-9FA9-448E-959E-D5705888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C24D-EFE2-4B93-9EB6-0791A585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09D27-EB07-4512-8658-03BBFE27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3E749-A79E-4574-9F69-758D9FCA8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4B5C8-4FA8-4C71-82EF-B61391DDF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BB13D-B1CB-4055-ACFB-5DA2CC69E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AD608-F514-4AB7-8322-EC3DFAFD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1D3FA-818E-43D4-8859-A18847A1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E198C-B4DE-4940-9174-76533DFF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232CD-F7D9-47AE-A3D1-4C3D31CE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7B2DE-60A2-4307-906A-1E665717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490AE-638B-471B-9338-BBDEF5E9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B3D2-1AE6-4BA2-976A-1FBCCEA7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CA923-0511-454B-B53C-ACA1986C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32E2F-ADD2-41F1-8BEA-440EDDF6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0CF0D-E4C1-4764-8BC9-A4CED7A9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B6801-4A48-4E30-B4C2-8AA615596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A48A7-95FF-4F4A-B696-4DAE9ABC0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7DC75-F810-4DB1-94E4-DFC239A3C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77E74-6A30-49D8-9627-F9294C8F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953AD-6A05-4BC8-9E5B-E093254C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B6329-FC55-4FCF-86A4-F1A49A41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3DD67-EE31-4D15-9CE7-863F4D59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493F-5D92-4E8F-8181-68DBB617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E2492-9B64-491F-9EBF-7571BBB9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8577A-02FE-4918-91DC-8742423E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3B85A-2B62-4CB7-9B10-81139F71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E7220-E375-421E-B1EB-838D59EF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46AA1-21AA-4A5A-846B-F7F54092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DD213-3B6A-4E86-9ECB-7FFF3367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F226C-560A-463D-82D3-0123FA760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E2675-969F-4A78-937B-022401DF2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0F345-E99B-46B8-9B1E-F3457975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3BB43-F94C-48BB-AF84-5E278FA4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2CD1-60C6-4466-A48E-D0DBD4FE01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9664-8BA1-4049-805D-1B56FDAA7B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6A2F-C5BB-4202-A6A9-D5C4FED0FB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AD2F-85C8-41BA-863D-EE1873D4D7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71D2-CC29-42B3-B488-34E2F08936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F1C6-738F-48D6-BCFA-6FB4F28730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A70D-3659-420B-B87C-8F5DD3E4E1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06E5-B870-4AFE-A868-B4E48CB9C9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2591-2F9D-4A4E-A418-F133139AB5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A370-591E-485E-8C4B-382129C1FD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0E17-BBD3-4E58-ACC4-42FF4FCCDD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7D14-1503-4DA1-B995-107E4ABE58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5F59-2E71-4E7E-A62C-97BD30003A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5FB5-5E29-48FD-9FFB-8F7FEF7395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ED3F-2AC0-4CF3-B4CB-28C15DE5F0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7A94-B9D4-4A0E-B267-75D316C7DA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D3DA-DC04-4936-838A-CBD0EB3C49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66FA-EB0C-4AA8-9B77-AC2730DE32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4A04-C3B3-420B-90F7-AB11585D3A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CE2A-BEA8-4894-840B-DB5B3ABEEF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4251-1D06-4D4A-B497-1B72060657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AB0C-5D2C-4673-BA5E-743BE33F6D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5D4B-556B-4412-99E5-89FB821E5C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2F4F-A3D5-4DB7-BF78-1A900D9A67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FBE7-A4EC-40D2-9279-F41AEE7EFE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4CC9-3B44-49DD-884E-E32E56A7CB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CCD6-D415-4179-A9B8-0BCEC3892D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A305-187D-463D-8BE8-FA8C03EAC2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680C-805A-4BED-AEB3-F27731BF9B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AC3A-881D-407D-A292-A158520A8D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DB23-B599-4F7B-900D-22060D9AD7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4017-5F0B-46FD-ADD3-AF72C7BA4D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0A8F-40E9-49AF-A8F9-AB5A2ED61E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B093-BF54-49B0-8740-798656CD6D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68B4-8A12-45DE-9AE5-62682ABA6A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F8BF-B686-47AD-8D8F-94764AB7C5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2E8D-E9D9-40FA-AFE5-AAA5A75ACF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8B8A-4AD6-4E26-B532-E535507899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5502-2FF7-4FD6-80FD-DB5AA0218F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BF7A-7497-4F92-AC47-6B91F5F1AB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281320" y="2900520"/>
            <a:ext cx="4581360" cy="10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69633" descr=""/>
          <p:cNvPicPr/>
          <p:nvPr/>
        </p:nvPicPr>
        <p:blipFill>
          <a:blip r:embed="rId1"/>
          <a:stretch/>
        </p:blipFill>
        <p:spPr>
          <a:xfrm>
            <a:off x="1714680" y="1781280"/>
            <a:ext cx="5715000" cy="32954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1979640" y="1816200"/>
            <a:ext cx="4105080" cy="9363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1692360" y="2952720"/>
            <a:ext cx="5400720" cy="4939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1476360" y="3716280"/>
            <a:ext cx="5400720" cy="4939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1835280" y="4394160"/>
            <a:ext cx="5400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762120" y="843120"/>
            <a:ext cx="7619760" cy="51717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195640" y="3716280"/>
            <a:ext cx="6337080" cy="8650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1908000" y="4795920"/>
            <a:ext cx="5832720" cy="4935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1763640" y="5445000"/>
            <a:ext cx="5832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719280" y="1990800"/>
            <a:ext cx="7705440" cy="28764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971640" y="2708280"/>
            <a:ext cx="7561080" cy="4935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3"/>
          <a:stretch/>
        </p:blipFill>
        <p:spPr>
          <a:xfrm>
            <a:off x="971640" y="3357720"/>
            <a:ext cx="7561080" cy="4935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4"/>
          <a:stretch/>
        </p:blipFill>
        <p:spPr>
          <a:xfrm>
            <a:off x="971640" y="4048200"/>
            <a:ext cx="7561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8373" descr=""/>
          <p:cNvPicPr/>
          <p:nvPr/>
        </p:nvPicPr>
        <p:blipFill>
          <a:blip r:embed="rId1"/>
          <a:stretch/>
        </p:blipFill>
        <p:spPr>
          <a:xfrm>
            <a:off x="266760" y="219240"/>
            <a:ext cx="8610480" cy="64195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755640" y="3716280"/>
            <a:ext cx="4537080" cy="4939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539640" y="4365720"/>
            <a:ext cx="4537080" cy="4935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4"/>
          <a:stretch/>
        </p:blipFill>
        <p:spPr>
          <a:xfrm>
            <a:off x="395280" y="5084640"/>
            <a:ext cx="4537080" cy="4939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5"/>
          <a:stretch/>
        </p:blipFill>
        <p:spPr>
          <a:xfrm>
            <a:off x="539640" y="5675400"/>
            <a:ext cx="7272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7352" descr=""/>
          <p:cNvPicPr/>
          <p:nvPr/>
        </p:nvPicPr>
        <p:blipFill>
          <a:blip r:embed="rId1"/>
          <a:stretch/>
        </p:blipFill>
        <p:spPr>
          <a:xfrm>
            <a:off x="324000" y="676440"/>
            <a:ext cx="8496000" cy="55051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971640" y="2824200"/>
            <a:ext cx="6264360" cy="4935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684360" y="3500280"/>
            <a:ext cx="6264000" cy="493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611280" y="4119480"/>
            <a:ext cx="6264360" cy="4939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611280" y="4797360"/>
            <a:ext cx="6264360" cy="4939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6"/>
          <a:stretch/>
        </p:blipFill>
        <p:spPr>
          <a:xfrm>
            <a:off x="611280" y="5445000"/>
            <a:ext cx="6264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6324" descr=""/>
          <p:cNvPicPr/>
          <p:nvPr/>
        </p:nvPicPr>
        <p:blipFill>
          <a:blip r:embed="rId1"/>
          <a:stretch/>
        </p:blipFill>
        <p:spPr>
          <a:xfrm>
            <a:off x="304920" y="885960"/>
            <a:ext cx="8534160" cy="50860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900000" y="2449440"/>
            <a:ext cx="5400720" cy="4939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755640" y="3184560"/>
            <a:ext cx="5400720" cy="4935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828720" y="3846600"/>
            <a:ext cx="5400720" cy="4935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684360" y="4581360"/>
            <a:ext cx="5400360" cy="4939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6"/>
          <a:stretch/>
        </p:blipFill>
        <p:spPr>
          <a:xfrm>
            <a:off x="755640" y="5329080"/>
            <a:ext cx="5400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5300" descr=""/>
          <p:cNvPicPr/>
          <p:nvPr/>
        </p:nvPicPr>
        <p:blipFill>
          <a:blip r:embed="rId1"/>
          <a:stretch/>
        </p:blipFill>
        <p:spPr>
          <a:xfrm>
            <a:off x="281160" y="1976400"/>
            <a:ext cx="858168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2231" descr=""/>
          <p:cNvPicPr/>
          <p:nvPr/>
        </p:nvPicPr>
        <p:blipFill>
          <a:blip r:embed="rId1"/>
          <a:stretch/>
        </p:blipFill>
        <p:spPr>
          <a:xfrm>
            <a:off x="604800" y="995400"/>
            <a:ext cx="7934400" cy="48672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826920" y="1168560"/>
            <a:ext cx="5185080" cy="4935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684360" y="1916280"/>
            <a:ext cx="5184720" cy="9363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4"/>
          <a:stretch/>
        </p:blipFill>
        <p:spPr>
          <a:xfrm>
            <a:off x="468360" y="3068640"/>
            <a:ext cx="5184720" cy="4935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5"/>
          <a:stretch/>
        </p:blipFill>
        <p:spPr>
          <a:xfrm>
            <a:off x="395280" y="3789360"/>
            <a:ext cx="5184720" cy="4935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6"/>
          <a:stretch/>
        </p:blipFill>
        <p:spPr>
          <a:xfrm>
            <a:off x="468360" y="4508640"/>
            <a:ext cx="8424720" cy="4935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7"/>
          <a:stretch/>
        </p:blipFill>
        <p:spPr>
          <a:xfrm>
            <a:off x="324000" y="5229360"/>
            <a:ext cx="51847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54276" descr=""/>
          <p:cNvPicPr/>
          <p:nvPr/>
        </p:nvPicPr>
        <p:blipFill>
          <a:blip r:embed="rId1"/>
          <a:stretch/>
        </p:blipFill>
        <p:spPr>
          <a:xfrm>
            <a:off x="281160" y="1100160"/>
            <a:ext cx="858168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7:52:22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